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107B-4CBE-483C-9528-A4890CA7A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7C45-0223-42F2-A6F0-53AE3E0B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4763-39CA-4E28-84AF-8D6CF16DB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3B6E-F71D-4195-8FF3-D87AB7C7E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0C97-D92C-4224-99CF-7F099427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B003-329B-46F7-B5A2-C10811AD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8E05-4224-4FB2-901D-2CFB5346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4103-9581-4720-BB11-32E9A502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1346-AA47-4A33-AAE6-7FFE2CCB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2C6C-69ED-490A-92AB-65FA9005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1AB4-0380-4A40-9E1B-C6D567DC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E036-0341-4878-B8BE-9531EB5E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8085-8569-4996-9CD6-E033BCFFC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xander Graham Bel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Alex, Cody, Jason, and N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exander Graham Bell  invented the telegraph in 1876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452920" y="2970360"/>
            <a:ext cx="24274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s born in 1847 in Edinburgh, Scotland and died in 1922 in Baddeck, Nova Scotia, in Cana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48320" y="2214720"/>
            <a:ext cx="403848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5:32:06Z</dcterms:created>
  <dc:creator>Montour School District</dc:creator>
  <dc:description/>
  <dc:language>en-US</dc:language>
  <cp:lastModifiedBy>Montour School District</cp:lastModifiedBy>
  <dcterms:modified xsi:type="dcterms:W3CDTF">2008-05-22T13:59:34Z</dcterms:modified>
  <cp:revision>3</cp:revision>
  <dc:subject/>
  <dc:title>Alexander Graham Bell </dc:title>
</cp:coreProperties>
</file>